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2D2-1B41-4C1C-B959-3CF51297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E5A-C849-49A1-A686-3D6B7A50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50B-CC1B-44F5-B03D-7EF10521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2B2-EE65-42B0-B218-26D37A8D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1A9-3EFE-4D92-AC53-22CAEC72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2C7-8278-490A-8758-78BCB466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A20-6C2F-4B95-9BCF-11FA5CD6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FC0-5D47-44C6-AE18-3D884D8B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2D2-5B09-4838-96C9-3BF6BF33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9DA-6AD5-4ED9-AD7F-8479273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AB2-A964-4D8E-926A-375C618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D61-865E-4887-A0C4-6FD6B727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729D-1725-43AB-88F6-592CE18AD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5 de febr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racticamos la comprensión de lectu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 usamos cono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 usamos sa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96 1-16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answer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nvers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¿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98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44-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2:56:14Z</dcterms:created>
  <dc:creator>Helen Zumaeta</dc:creator>
  <dc:description/>
  <dc:language>en-US</dc:language>
  <cp:lastModifiedBy>Helen Zumaeta</cp:lastModifiedBy>
  <dcterms:modified xsi:type="dcterms:W3CDTF">2013-02-25T14:42:26Z</dcterms:modified>
  <cp:revision>9</cp:revision>
  <dc:subject/>
  <dc:title>Me llamo ________       Clase 7 IM La fecha es el 23 de noviembre del 2011</dc:title>
</cp:coreProperties>
</file>